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CF93-DC04-46D2-96DC-2D167047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C77-B86F-4117-8F8D-1B1F0B53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0C3-F34B-4EC1-9DB0-8B25340C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3FA-E540-4E63-BB28-82A14752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5D35-CC81-47BE-B5C9-CFE67C40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06CC-ACF0-4BD4-8D47-D83406A8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4B61-9B45-473B-911C-B4837319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AB45-8D1B-4D34-AFE8-9C226736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4E15-4940-4A48-AD33-ABA67E90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FC82-9363-4A39-A47B-B32DFD26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102B-CAD2-4605-A58E-A652C330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D8D-B44A-4344-890A-1C86C2D7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AE7E-3E82-4331-9AD6-64632773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517D-E818-4CAC-A615-A955146F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9128-09D5-4221-B50E-2B1014B3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A66B-97A0-4245-9556-6B561E2B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D943-C9CC-4983-B55C-18131DB1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E4E-2DEA-4BB7-9E44-5D1D2BED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B89-677C-49FE-94A4-419FFADF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4BE-BA29-488D-9680-58B0B52E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3F1-932D-4951-89D5-D3A61D96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8A0-E8AE-4BCF-970E-BDEB07B8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42E-2C31-4AAC-B7B0-B9E26D63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01A-2B24-4791-9C92-BADE4CF8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3640-A602-4AA5-BEF3-6BD9EEC07E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78B0-E275-4F4C-B464-62CFDB6DD60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Докла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5120" y="15238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Методология построения систем безопасности для электронных платежных систем на основе субъектно-объектной модели безопасност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Э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ф. д.т.н.  Мельников Ю.Н.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спирант   Теренин А.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380880"/>
            <a:ext cx="3200400" cy="106704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деление об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ромисс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457200"/>
            <a:ext cx="3505320" cy="114300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 систе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жирования критерие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1447920"/>
            <a:ext cx="152640" cy="685800"/>
          </a:xfrm>
          <a:prstGeom prst="downArrow">
            <a:avLst>
              <a:gd name="adj1" fmla="val 50000"/>
              <a:gd name="adj2" fmla="val 112323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4572000"/>
            <a:ext cx="152280" cy="76212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280" y="6518160"/>
            <a:ext cx="71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ок схема алгоритма оптимального проектиров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133720"/>
            <a:ext cx="4038480" cy="91440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ор одного и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ов комплекса защит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3678000">
            <a:off x="4571280" y="1218960"/>
            <a:ext cx="152640" cy="1219320"/>
          </a:xfrm>
          <a:prstGeom prst="downArrow">
            <a:avLst>
              <a:gd name="adj1" fmla="val 50000"/>
              <a:gd name="adj2" fmla="val 1997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5334120"/>
            <a:ext cx="3200400" cy="106668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ят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а систем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2819520"/>
            <a:ext cx="3276360" cy="1828800"/>
          </a:xfrm>
          <a:prstGeom prst="flowChartDecision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дложен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7929800">
            <a:off x="4963320" y="2656800"/>
            <a:ext cx="131760" cy="1218960"/>
          </a:xfrm>
          <a:prstGeom prst="downArrow">
            <a:avLst>
              <a:gd name="adj1" fmla="val 50000"/>
              <a:gd name="adj2" fmla="val 231284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0796400">
            <a:off x="6857640" y="1598760"/>
            <a:ext cx="152280" cy="1295280"/>
          </a:xfrm>
          <a:prstGeom prst="downArrow">
            <a:avLst>
              <a:gd name="adj1" fmla="val 50000"/>
              <a:gd name="adj2" fmla="val 21264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Этапы методики проектирования системы защиты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334120"/>
            <a:ext cx="2666880" cy="1143000"/>
          </a:xfrm>
          <a:prstGeom prst="flowChartPunchedTap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форм. опис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886200"/>
            <a:ext cx="3505320" cy="91440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мальная мод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4800600"/>
            <a:ext cx="152280" cy="6858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19320" y="2133720"/>
            <a:ext cx="0" cy="1752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905120" y="2133720"/>
            <a:ext cx="0" cy="1752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666880" y="2133720"/>
            <a:ext cx="0" cy="1752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809880" y="2133720"/>
            <a:ext cx="0" cy="1752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286000"/>
            <a:ext cx="304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2514600"/>
            <a:ext cx="304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743200"/>
            <a:ext cx="304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2971800"/>
            <a:ext cx="304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2286000"/>
            <a:ext cx="304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2514600"/>
            <a:ext cx="304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2743200"/>
            <a:ext cx="304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2971800"/>
            <a:ext cx="304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228600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51460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274320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28600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251460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274320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297180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3200400"/>
            <a:ext cx="304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3200400"/>
            <a:ext cx="304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2819520"/>
            <a:ext cx="533520" cy="304560"/>
          </a:xfrm>
          <a:prstGeom prst="ellipse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2133720"/>
            <a:ext cx="533520" cy="304560"/>
          </a:xfrm>
          <a:prstGeom prst="ellipse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2362320"/>
            <a:ext cx="533520" cy="304560"/>
          </a:xfrm>
          <a:prstGeom prst="ellipse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2590920"/>
            <a:ext cx="533520" cy="304560"/>
          </a:xfrm>
          <a:prstGeom prst="ellipse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2362320"/>
            <a:ext cx="304920" cy="533160"/>
          </a:xfrm>
          <a:prstGeom prst="line">
            <a:avLst/>
          </a:prstGeom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209680" y="2590560"/>
            <a:ext cx="304920" cy="228600"/>
          </a:xfrm>
          <a:prstGeom prst="line">
            <a:avLst/>
          </a:prstGeom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2514600"/>
            <a:ext cx="609480" cy="152280"/>
          </a:xfrm>
          <a:prstGeom prst="line">
            <a:avLst/>
          </a:prstGeom>
          <a:ln cap="rnd" w="1260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752480"/>
            <a:ext cx="135576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8100" y="21330"/>
                </a:moveTo>
                <a:lnTo>
                  <a:pt x="-1214" y="6480"/>
                </a:lnTo>
              </a:path>
              <a:path w="21600" h="21600">
                <a:moveTo>
                  <a:pt x="-1214" y="0"/>
                </a:moveTo>
                <a:lnTo>
                  <a:pt x="-1214" y="21600"/>
                </a:lnTo>
              </a:path>
            </a:pathLst>
          </a:custGeom>
          <a:noFill/>
          <a:ln cap="sq"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cc"/>
                </a:solidFill>
                <a:latin typeface="Times New Roman"/>
              </a:rPr>
              <a:t>Треб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2514600"/>
            <a:ext cx="1447560" cy="66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282" y="22270"/>
                </a:moveTo>
                <a:lnTo>
                  <a:pt x="-1137" y="3712"/>
                </a:lnTo>
              </a:path>
              <a:path w="21600" h="21600">
                <a:moveTo>
                  <a:pt x="-1137" y="0"/>
                </a:moveTo>
                <a:lnTo>
                  <a:pt x="-1137" y="21600"/>
                </a:lnTo>
              </a:path>
            </a:pathLst>
          </a:custGeom>
          <a:noFill/>
          <a:ln cap="sq"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cc"/>
                </a:solidFill>
                <a:latin typeface="Times New Roman"/>
              </a:rPr>
              <a:t>Средство реализ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В данной работе разработан общий алгоритм построения системы защиты ЭПС. Используются результаты, полученные в результате исследований существующих формальных моделей безопасности, предложена собственная модель, субъектно-обеъектного взаимодействия компонент распределенной вычислительной сети созданная с использованием доказательного подхода</a:t>
            </a:r>
            <a:r>
              <a:rPr b="1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Разработанная методология позволяет на основе неформального описания системы и правил политики безопасности (необходимо подготовить соответствующую документацию) создать формальную модель процессов, протекающих в исследуемой платежной системе. Формализовать правила политики безопасности и доказать соответствие разработанной модели задаваемым правилам политики безопасности.</a:t>
            </a:r>
            <a:r>
              <a:rPr b="1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Разработанную субъектно-объектную модель и основанную на ней методику оптимального проектирования защищенных систем можно применять для эффективного построения новых платежных систем, соответствующим заданному уровню безопасности или анализа уже существующих систе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Предложенная методика позволяет проводить практические исследования эффективности применения средств защиты информации. Методику можно успешно использовать для технико-экономического обоснования создания системы защиты информации в распределенных вычислительных сетях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Результаты исследований используются в следующих направлениях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Описание вычислительной сети в терминах формальной модели субъектно-объектного взаимодейств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Формализация правил заданной политики безопасност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Формальное доказательство соответствия разработанной модели задаваемой политики безопасност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440" y="152280"/>
            <a:ext cx="8458200" cy="69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Интерпретация условий выполнения политики безопасности и распределение обязанностей выполнения этих правил между субъектами системы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Выявление требований, которым должна удовлетворять система безопасности для адекватного выполнения возложенных на нее функций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Проведение технико-экономического обоснования применения средств З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Оптимальное проектирование: выбор компонент для реализации системы защиты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Оценка эффективности существующей системы защиты ЭПС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ли доклад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ктуальность тем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родемонстрировать разработанную методологию построения эффективных систем безопасности для электронных платежных систем на основе субъектно-объектной модели безопасност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казать результаты исследовани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Исходные положен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Courier New"/>
              </a:rPr>
              <a:t>Электронная платежная систем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urier New"/>
              </a:rPr>
              <a:t>Режимы работы ЭП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Courier New"/>
              </a:rPr>
              <a:t>Безопасность информации в распределенной вычислительной сети (РВС) означает гарантированное выполнение заданной политики безопасности (ПБ)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Courier New"/>
              </a:rPr>
              <a:t>Вычислительная сеть рассматривается в рамках классической декомпозиции на субъекты и объекты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Цель исследований: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П</a:t>
            </a:r>
            <a:r>
              <a:rPr b="1" lang="ru-RU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овышение информационной безопасности Электронных Платежных Систем, построенных на основе модели субъектно-объектного взаимодействия компонент вычислительной сет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Общий алгоритм построения системы защиты ЭПС.</a:t>
            </a: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сходными положениями является уже существующая или еще не реализованная спроектированная электронная платежная система, известна ее архитектура и методы взаимодействия между ее компонентами. Задана политика безопасности обработки информации в рассматриваемой системе. Также считается известным набор средств и механизмов обеспечения информационной безопасности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bcbcb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лгоритм построения системы защиты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еформальное описание компонент (архитектуры) системы и неформальное задание правил политики безопасност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Формализация описания архитектуры исследуемой системы и выработка формальных правил разграничения доступа, реализующих заданную в п.1. политику безопасност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Формальное доказательство соответствия разработанной системе задаваемой политики безопасност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нтерпретация условий выполнения политики безопасности и распределение обязанностей выполнения этих правил между субъектами систем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ыявление требований, которым должна удовлетворять система безопасности для адекватного выполнения возложенных на нее функций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ление списков существующих средств и механизмов обеспечения информационной защиты, выполняющие требующиеся функци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тветствия разработанной системе задаваемой политики безопас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тимальное проектирование: выбор компонент для реализации системы защиты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380880"/>
            <a:ext cx="3657600" cy="53352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формальное опис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295280"/>
            <a:ext cx="3657600" cy="45720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мализа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2286000"/>
            <a:ext cx="3810240" cy="45720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мальное доказатель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3200400"/>
            <a:ext cx="3657600" cy="45720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терпретация моде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114800"/>
            <a:ext cx="3657600" cy="45720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явление требова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5029200"/>
            <a:ext cx="3657600" cy="45720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ханизмы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5943600"/>
            <a:ext cx="3962520" cy="45720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тимальное проектир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0800000">
            <a:off x="5104440" y="609120"/>
            <a:ext cx="609480" cy="685800"/>
          </a:xfrm>
          <a:custGeom>
            <a:avLst/>
            <a:gdLst>
              <a:gd name="textAreaLeft" fmla="*/ 202680 w 609480"/>
              <a:gd name="textAreaRight" fmla="*/ 521640 w 609480"/>
              <a:gd name="textAreaTop" fmla="*/ 53424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9924"/>
                </a:moveTo>
                <a:lnTo>
                  <a:pt x="16824" y="19924"/>
                </a:lnTo>
                <a:lnTo>
                  <a:pt x="16824" y="7200"/>
                </a:lnTo>
                <a:lnTo>
                  <a:pt x="13724" y="7200"/>
                </a:lnTo>
                <a:lnTo>
                  <a:pt x="17662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914400"/>
            <a:ext cx="152280" cy="1371600"/>
          </a:xfrm>
          <a:prstGeom prst="downArrow">
            <a:avLst>
              <a:gd name="adj1" fmla="val 50000"/>
              <a:gd name="adj2" fmla="val 22517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3733560" y="1523520"/>
            <a:ext cx="609480" cy="762120"/>
          </a:xfrm>
          <a:custGeom>
            <a:avLst/>
            <a:gdLst>
              <a:gd name="textAreaLeft" fmla="*/ 203040 w 609480"/>
              <a:gd name="textAreaRight" fmla="*/ 522000 w 609480"/>
              <a:gd name="textAreaTop" fmla="*/ 593640 h 762120"/>
              <a:gd name="textAreaBottom" fmla="*/ 6530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9925"/>
                </a:moveTo>
                <a:lnTo>
                  <a:pt x="16825" y="19925"/>
                </a:lnTo>
                <a:lnTo>
                  <a:pt x="16825" y="7200"/>
                </a:lnTo>
                <a:lnTo>
                  <a:pt x="13725" y="7200"/>
                </a:lnTo>
                <a:lnTo>
                  <a:pt x="17663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743200"/>
            <a:ext cx="152280" cy="1371600"/>
          </a:xfrm>
          <a:prstGeom prst="downArrow">
            <a:avLst>
              <a:gd name="adj1" fmla="val 50000"/>
              <a:gd name="adj2" fmla="val 22517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572000"/>
            <a:ext cx="152280" cy="1371600"/>
          </a:xfrm>
          <a:prstGeom prst="downArrow">
            <a:avLst>
              <a:gd name="adj1" fmla="val 50000"/>
              <a:gd name="adj2" fmla="val 22517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1752480"/>
            <a:ext cx="152640" cy="1447920"/>
          </a:xfrm>
          <a:prstGeom prst="downArrow">
            <a:avLst>
              <a:gd name="adj1" fmla="val 50000"/>
              <a:gd name="adj2" fmla="val 2371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3657600"/>
            <a:ext cx="152280" cy="1371600"/>
          </a:xfrm>
          <a:prstGeom prst="downArrow">
            <a:avLst>
              <a:gd name="adj1" fmla="val 50000"/>
              <a:gd name="adj2" fmla="val 22517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rot="10800000">
            <a:off x="5333040" y="2514240"/>
            <a:ext cx="609480" cy="685800"/>
          </a:xfrm>
          <a:custGeom>
            <a:avLst/>
            <a:gdLst>
              <a:gd name="textAreaLeft" fmla="*/ 202680 w 609480"/>
              <a:gd name="textAreaRight" fmla="*/ 521640 w 609480"/>
              <a:gd name="textAreaTop" fmla="*/ 53424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9924"/>
                </a:moveTo>
                <a:lnTo>
                  <a:pt x="16824" y="19924"/>
                </a:lnTo>
                <a:lnTo>
                  <a:pt x="16824" y="7200"/>
                </a:lnTo>
                <a:lnTo>
                  <a:pt x="13724" y="7200"/>
                </a:lnTo>
                <a:lnTo>
                  <a:pt x="17662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rot="10800000">
            <a:off x="5256720" y="4343040"/>
            <a:ext cx="609480" cy="685800"/>
          </a:xfrm>
          <a:custGeom>
            <a:avLst/>
            <a:gdLst>
              <a:gd name="textAreaLeft" fmla="*/ 202680 w 609480"/>
              <a:gd name="textAreaRight" fmla="*/ 521640 w 609480"/>
              <a:gd name="textAreaTop" fmla="*/ 53424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9924"/>
                </a:moveTo>
                <a:lnTo>
                  <a:pt x="16824" y="19924"/>
                </a:lnTo>
                <a:lnTo>
                  <a:pt x="16824" y="7200"/>
                </a:lnTo>
                <a:lnTo>
                  <a:pt x="13724" y="7200"/>
                </a:lnTo>
                <a:lnTo>
                  <a:pt x="17662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3809880" y="3352320"/>
            <a:ext cx="609840" cy="762120"/>
          </a:xfrm>
          <a:custGeom>
            <a:avLst/>
            <a:gdLst>
              <a:gd name="textAreaLeft" fmla="*/ 203400 w 609840"/>
              <a:gd name="textAreaRight" fmla="*/ 522360 w 609840"/>
              <a:gd name="textAreaTop" fmla="*/ 593640 h 762120"/>
              <a:gd name="textAreaBottom" fmla="*/ 6530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9925"/>
                </a:moveTo>
                <a:lnTo>
                  <a:pt x="16825" y="19925"/>
                </a:lnTo>
                <a:lnTo>
                  <a:pt x="16825" y="7200"/>
                </a:lnTo>
                <a:lnTo>
                  <a:pt x="13725" y="7200"/>
                </a:lnTo>
                <a:lnTo>
                  <a:pt x="17663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3885840" y="5181120"/>
            <a:ext cx="609480" cy="762120"/>
          </a:xfrm>
          <a:custGeom>
            <a:avLst/>
            <a:gdLst>
              <a:gd name="textAreaLeft" fmla="*/ 203040 w 609480"/>
              <a:gd name="textAreaRight" fmla="*/ 522000 w 609480"/>
              <a:gd name="textAreaTop" fmla="*/ 593640 h 762120"/>
              <a:gd name="textAreaBottom" fmla="*/ 6530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9925"/>
                </a:moveTo>
                <a:lnTo>
                  <a:pt x="16825" y="19925"/>
                </a:lnTo>
                <a:lnTo>
                  <a:pt x="16825" y="7200"/>
                </a:lnTo>
                <a:lnTo>
                  <a:pt x="13725" y="7200"/>
                </a:lnTo>
                <a:lnTo>
                  <a:pt x="17663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380880"/>
            <a:ext cx="3200400" cy="106704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л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ска требован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457200"/>
            <a:ext cx="3276720" cy="114300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аничения 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тренние параметр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1447920"/>
            <a:ext cx="152640" cy="685800"/>
          </a:xfrm>
          <a:prstGeom prst="downArrow">
            <a:avLst>
              <a:gd name="adj1" fmla="val 50000"/>
              <a:gd name="adj2" fmla="val 112323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2004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48769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280" y="6518160"/>
            <a:ext cx="71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ок схема алгоритма оптимального проектиров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2133720"/>
            <a:ext cx="3200400" cy="106668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сок механизм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2057400"/>
            <a:ext cx="3200400" cy="106668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орный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733920"/>
            <a:ext cx="4038480" cy="114300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чис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х характерист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ов проектов систем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3678000">
            <a:off x="4571280" y="1218960"/>
            <a:ext cx="152640" cy="1219320"/>
          </a:xfrm>
          <a:prstGeom prst="downArrow">
            <a:avLst>
              <a:gd name="adj1" fmla="val 50000"/>
              <a:gd name="adj2" fmla="val 1997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3678000">
            <a:off x="4571280" y="2819160"/>
            <a:ext cx="152640" cy="1219320"/>
          </a:xfrm>
          <a:prstGeom prst="downArrow">
            <a:avLst>
              <a:gd name="adj1" fmla="val 50000"/>
              <a:gd name="adj2" fmla="val 1997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3733920"/>
            <a:ext cx="3200400" cy="106668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аничения 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е параметр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5410080"/>
            <a:ext cx="4038480" cy="1143000"/>
          </a:xfrm>
          <a:prstGeom prst="flowChartProcess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ор допустим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ов проекта систем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3678000">
            <a:off x="4724640" y="4495680"/>
            <a:ext cx="152280" cy="1218960"/>
          </a:xfrm>
          <a:prstGeom prst="downArrow">
            <a:avLst>
              <a:gd name="adj1" fmla="val 50000"/>
              <a:gd name="adj2" fmla="val 20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7956200">
            <a:off x="5410080" y="5638320"/>
            <a:ext cx="152280" cy="1218960"/>
          </a:xfrm>
          <a:prstGeom prst="downArrow">
            <a:avLst>
              <a:gd name="adj1" fmla="val 50000"/>
              <a:gd name="adj2" fmla="val 20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6:46:04Z</dcterms:created>
  <dc:creator>.</dc:creator>
  <dc:description/>
  <dc:language>en-US</dc:language>
  <cp:lastModifiedBy>Lebedev A.N.</cp:lastModifiedBy>
  <dcterms:modified xsi:type="dcterms:W3CDTF">2003-01-27T12:14:38Z</dcterms:modified>
  <cp:revision>17</cp:revision>
  <dc:subject/>
  <dc:title>Доклад</dc:title>
</cp:coreProperties>
</file>